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F31E-5467-4FFB-871C-60C7F59F3F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ný doprovodný komentář učit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D25-DD7D-4EAF-8B0A-56D65B8B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94D-99E8-4E60-A2C1-B937FE94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E9B-7151-49F0-90AE-0F2CA3DC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202-A233-48CA-9423-DF19144E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AEC-8DC1-4847-B36A-315DD205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162-F49B-4405-AE1F-3DC791B0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391-4DB6-446A-B88E-FC364B53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C72-B2A1-4E39-B21D-478A4136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261-794B-47CE-BD64-F06232E7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D16-4E6E-4789-858B-FAB6B2C7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4A0-93AE-42ED-856F-06A6BFDB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A0E-35EB-485B-B1B9-5ED62EAA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B49A-2B4A-48A0-8CFB-52F232F71F1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niometrické fu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98989"/>
                </a:solidFill>
                <a:latin typeface="Arial"/>
              </a:rPr>
              <a:t>Kotang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niometrické funk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iometrické funkce ostrého úhl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52360" y="2924280"/>
            <a:ext cx="3816360" cy="2373120"/>
            <a:chOff x="252360" y="2924280"/>
            <a:chExt cx="3816360" cy="2373120"/>
          </a:xfrm>
        </p:grpSpPr>
        <p:sp>
          <p:nvSpPr>
            <p:cNvPr id="54" name=""/>
            <p:cNvSpPr/>
            <p:nvPr/>
          </p:nvSpPr>
          <p:spPr>
            <a:xfrm>
              <a:off x="755640" y="3357720"/>
              <a:ext cx="3024360" cy="136836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4240" y="4440240"/>
              <a:ext cx="622440" cy="85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36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36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6920" y="458136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483640" y="4221360"/>
              <a:ext cx="431640" cy="100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771" swAng="4854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771" swAng="4854771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08360" y="4653000"/>
              <a:ext cx="360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5280" y="292428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8360" y="4797360"/>
              <a:ext cx="358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27280" y="4292640"/>
              <a:ext cx="3589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55640" y="3429000"/>
              <a:ext cx="360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52720" y="3212280"/>
              <a:ext cx="100584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35280" y="479736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0920" y="350028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2360" y="3789360"/>
              <a:ext cx="3571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284720" y="2492280"/>
            <a:ext cx="172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hel </a:t>
            </a: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3068640"/>
            <a:ext cx="40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– přep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789360"/>
            <a:ext cx="40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– protilehlá odvě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4508640"/>
            <a:ext cx="40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– přilehlá odvě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587700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apiš názvy stran vzhledem k úhl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349360"/>
            <a:ext cx="324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voúhlý trojúhelní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TA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tange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nitřního ostrého úhlu libovolného pravoúhlého trojúhelníku je poměr délky přilehlé odvěsny tohoto úhlu k délce protilehlé odvěs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3718080"/>
            <a:ext cx="3024360" cy="136836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8600" y="4800600"/>
            <a:ext cx="622440" cy="85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369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369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941720"/>
            <a:ext cx="745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28360" y="4581720"/>
            <a:ext cx="430920" cy="100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06" y="136"/>
                </a:moveTo>
                <a:arcTo wR="10800" hR="10800" stAng="-4854771" swAng="4854771"/>
                <a:lnTo>
                  <a:pt x="10800" y="10800"/>
                </a:lnTo>
                <a:close/>
              </a:path>
              <a:path fill="none" w="21600" h="21600">
                <a:moveTo>
                  <a:pt x="12506" y="136"/>
                </a:moveTo>
                <a:arcTo wR="10800" hR="10800" stAng="-4854771" swAng="485477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2720" y="5013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328464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4520" y="5157720"/>
            <a:ext cx="35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3440" y="4653000"/>
            <a:ext cx="35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378936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97080" y="3572640"/>
            <a:ext cx="10058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157720"/>
            <a:ext cx="358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3860640"/>
            <a:ext cx="358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149720"/>
            <a:ext cx="358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580000" y="3213000"/>
                <a:ext cx="246384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g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50920" y="5877000"/>
            <a:ext cx="4897440" cy="63180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apiš kotangens úhl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653080" y="5086440"/>
                <a:ext cx="23623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g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580000" y="3111480"/>
            <a:ext cx="2521080" cy="158292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80000" y="4983120"/>
            <a:ext cx="2521080" cy="1582920"/>
          </a:xfrm>
          <a:prstGeom prst="rect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TA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ždému ostrému úhlu přísluš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ávě jed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dnota funkce kotang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157720"/>
            <a:ext cx="5329080" cy="151128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Úk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trojte graf funkce kotange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užij tabulky, kalkulačku, milimetrový papí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781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známk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tangens ostrého úhlu může bý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větší než jedna. Zdůvodni proč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393372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že délka odvěsny není vždy menší než délka druhé odvěs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TA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35280" y="1989000"/>
          <a:ext cx="6877080" cy="863640"/>
        </p:xfrm>
        <a:graphic>
          <a:graphicData uri="http://schemas.openxmlformats.org/drawingml/2006/table">
            <a:tbl>
              <a:tblPr/>
              <a:tblGrid>
                <a:gridCol w="691920"/>
                <a:gridCol w="619200"/>
                <a:gridCol w="617400"/>
                <a:gridCol w="619200"/>
                <a:gridCol w="619200"/>
                <a:gridCol w="615960"/>
                <a:gridCol w="622440"/>
                <a:gridCol w="615960"/>
                <a:gridCol w="618840"/>
                <a:gridCol w="617760"/>
                <a:gridCol w="619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g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39640" y="1171440"/>
            <a:ext cx="0" cy="568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2360" y="6369120"/>
            <a:ext cx="45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630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630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630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630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1440" y="630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00360" y="630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630864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630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630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6453360"/>
            <a:ext cx="21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6453360"/>
            <a:ext cx="21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7800" y="6453360"/>
            <a:ext cx="21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6453360"/>
            <a:ext cx="2156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6453360"/>
            <a:ext cx="2156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7440" y="6453360"/>
            <a:ext cx="21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6453360"/>
            <a:ext cx="2156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453360"/>
            <a:ext cx="2156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37080" y="6453360"/>
            <a:ext cx="2156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6381720"/>
            <a:ext cx="216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4209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637000"/>
            <a:ext cx="2156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437000"/>
            <a:ext cx="21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326200"/>
            <a:ext cx="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6045120"/>
            <a:ext cx="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72148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227480"/>
            <a:ext cx="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3255840"/>
            <a:ext cx="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6045120"/>
            <a:ext cx="28065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7840" y="602136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057480" y="5734080"/>
            <a:ext cx="0" cy="5745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5734080"/>
            <a:ext cx="2448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5326200"/>
            <a:ext cx="2087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698920" y="5300640"/>
            <a:ext cx="0" cy="10080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255840"/>
            <a:ext cx="971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1420920"/>
            <a:ext cx="647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338560" y="4868640"/>
            <a:ext cx="0" cy="1439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78200" y="4220640"/>
            <a:ext cx="1440" cy="2087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619280" y="3284640"/>
            <a:ext cx="0" cy="30240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258920" y="1413000"/>
            <a:ext cx="1440" cy="49672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570560"/>
            <a:ext cx="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869000"/>
            <a:ext cx="16905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227480"/>
            <a:ext cx="1406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1052640"/>
            <a:ext cx="39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0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6397560"/>
            <a:ext cx="216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1840" y="634356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81480" y="601992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22560" y="5695920"/>
            <a:ext cx="698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530064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01840" y="4832280"/>
            <a:ext cx="716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43280" y="4192560"/>
            <a:ext cx="6984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82560" y="3249720"/>
            <a:ext cx="7020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22200" y="1384200"/>
            <a:ext cx="7020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66560" y="4857480"/>
            <a:ext cx="141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260280"/>
            <a:ext cx="2737080" cy="6121440"/>
          </a:xfrm>
          <a:custGeom>
            <a:avLst/>
            <a:gdLst/>
            <a:ahLst/>
            <a:rect l="l" t="t" r="r" b="b"/>
            <a:pathLst>
              <a:path w="1724" h="3856">
                <a:moveTo>
                  <a:pt x="1724" y="3856"/>
                </a:moveTo>
                <a:cubicBezTo>
                  <a:pt x="1679" y="3829"/>
                  <a:pt x="1634" y="3803"/>
                  <a:pt x="1543" y="3720"/>
                </a:cubicBezTo>
                <a:cubicBezTo>
                  <a:pt x="1452" y="3637"/>
                  <a:pt x="1286" y="3478"/>
                  <a:pt x="1180" y="3357"/>
                </a:cubicBezTo>
                <a:cubicBezTo>
                  <a:pt x="1074" y="3236"/>
                  <a:pt x="991" y="3107"/>
                  <a:pt x="908" y="2994"/>
                </a:cubicBezTo>
                <a:cubicBezTo>
                  <a:pt x="825" y="2881"/>
                  <a:pt x="764" y="2835"/>
                  <a:pt x="681" y="2676"/>
                </a:cubicBezTo>
                <a:cubicBezTo>
                  <a:pt x="598" y="2517"/>
                  <a:pt x="485" y="2275"/>
                  <a:pt x="409" y="2041"/>
                </a:cubicBezTo>
                <a:cubicBezTo>
                  <a:pt x="333" y="1807"/>
                  <a:pt x="295" y="1610"/>
                  <a:pt x="227" y="1270"/>
                </a:cubicBezTo>
                <a:cubicBezTo>
                  <a:pt x="159" y="930"/>
                  <a:pt x="38" y="212"/>
                  <a:pt x="0" y="0"/>
                </a:cubicBezTo>
              </a:path>
            </a:pathLst>
          </a:custGeom>
          <a:noFill/>
          <a:ln w="414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5280" y="4664160"/>
            <a:ext cx="3384720" cy="32414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TA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89200" y="333000"/>
            <a:ext cx="3754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notková kruž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122560" y="1268280"/>
            <a:ext cx="1440" cy="526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6319800"/>
            <a:ext cx="709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1477440" y="2863800"/>
            <a:ext cx="7200000" cy="691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44481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40360" y="649764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979640" y="2852640"/>
            <a:ext cx="6264360" cy="354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79640" y="2852640"/>
            <a:ext cx="3672000" cy="360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050920" y="2781000"/>
            <a:ext cx="2160720" cy="36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123640" y="1484280"/>
            <a:ext cx="6086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117880" y="1989000"/>
            <a:ext cx="351936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119320" y="2492280"/>
            <a:ext cx="20448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907920"/>
            <a:ext cx="16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tg 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49480" y="1484280"/>
            <a:ext cx="172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tg 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8360" y="1989000"/>
            <a:ext cx="1765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otg 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2000" y="83664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jednotka = 1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863800"/>
            <a:ext cx="615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59080" y="247500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19162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23120" y="1457280"/>
            <a:ext cx="0" cy="14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Tabulka důležitých hodnot goniometrických funkc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91520" cy="4818240"/>
        </p:xfrm>
        <a:graphic>
          <a:graphicData uri="http://schemas.openxmlformats.org/drawingml/2006/table">
            <a:tbl>
              <a:tblPr/>
              <a:tblGrid>
                <a:gridCol w="1133640"/>
                <a:gridCol w="1468440"/>
                <a:gridCol w="1441440"/>
                <a:gridCol w="1439640"/>
                <a:gridCol w="1368360"/>
                <a:gridCol w="1440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efinov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efinov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3492360" y="2421000"/>
            <a:ext cx="3414960" cy="3889440"/>
            <a:chOff x="3492360" y="2421000"/>
            <a:chExt cx="3414960" cy="3889440"/>
          </a:xfrm>
        </p:grpSpPr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3492360" y="4437000"/>
                  <a:ext cx="53352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3492360" y="5661000"/>
                  <a:ext cx="57636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372360" y="5445000"/>
                  <a:ext cx="53496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6300720" y="4653000"/>
                  <a:ext cx="576360" cy="54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492360" y="2492280"/>
                  <a:ext cx="33192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788000" y="2421000"/>
                  <a:ext cx="58104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300720" y="2421000"/>
                  <a:ext cx="58104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6443640" y="3429000"/>
                  <a:ext cx="33192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4932360" y="3429000"/>
                  <a:ext cx="58104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3492360" y="3429000"/>
                  <a:ext cx="58104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3T09:13:14Z</dcterms:created>
  <dc:creator>Kamila Mužíková</dc:creator>
  <dc:description>Dostupné z Metodického portálu www.rvp.cz, ISSN: 1802-4785, financovaného z ESF a státního rozpočtu ČR. Provozováno Výzkumným ústavem pedagogickým v Praze.</dc:description>
  <dc:language>en-US</dc:language>
  <cp:lastModifiedBy>Stepanka</cp:lastModifiedBy>
  <dcterms:modified xsi:type="dcterms:W3CDTF">2008-09-18T20:46:33Z</dcterms:modified>
  <cp:revision>47</cp:revision>
  <dc:subject/>
  <dc:title>Funkce kotangens</dc:title>
</cp:coreProperties>
</file>